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3EE-C678-4F8E-AE65-4F194101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3C5-95C3-4D83-97B1-C67C45FC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85C-BAE6-43F0-99B1-E205307A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976-AA57-48EB-881E-6E1FDE0C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864-0FF7-44D9-81DA-EF661C9D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33F-802C-45C6-884F-7E8FA20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ACD-1D59-43F9-BCB7-B4DF9541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D52-A692-441A-8374-EF2A969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4C4-92FF-49A3-97F2-C552AB63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C6D-A7E2-4B9D-9406-E6BDC100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8D4-5511-4AA3-A6E4-CC3040A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D03-E2CE-4FB4-B8F5-70735DF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6C48-EC25-4C1F-A55E-3F38D1B0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G Procedural Manual: Wind Mode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G Request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1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PSS/E Dynamic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123920"/>
            <a:ext cx="5267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PSS/E Wind Farm Dynamic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52000" y="339084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age intentionally left bl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Modeling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ontracted PTI to develop wind models i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successfully completed models for all of the wind faciliti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 were in operation at that time in ER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/DWG received the programs and source code for these wi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not added to standard model library in PSS/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Wind Modeling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LAN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ggregate wind farm to collector bus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ispatch equivalent machin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tup reactive power contro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write out dynamic data to the dynamic input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imulation Models (program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 gust and r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rodynamic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Shaf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or Control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Factor Compensation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rodynamic Cp matr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Models Datasheets and Block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Modeling Curre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/DWG members still use the models developed in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s are modified to make integration of the wind models into ERCOT cas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numbering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wind facility modeling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ossible because we have the source c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Modeling 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urrently lists over 13,000 MW of wind generation being stu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develop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odels do not work for some newer wind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 wish to protect proprieta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ind generators providing data to ERCOT/D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G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ind generators providing data to ERCOT/D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re requiring NDA’s from each TSP to us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urrently signing NDA’s so that they can perform thei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hould be protected by the standard ERCOT confidential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roviding object code for their wind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es not allow ERCOT/DWG to make  changes to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y not work with future versions of PSS/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G Requests ROS Approve the Fol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requirements in DWG Procedural Man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quire that the wind modeling data be available for use by all TD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requirements include pro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ynamic model source code 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ynamic model object code which must be updated for PSS/E version changes or as requested by ERCOT or D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5:50:28Z</dcterms:created>
  <dc:creator>Wesley Woitt</dc:creator>
  <dc:description/>
  <dc:language>en-US</dc:language>
  <cp:lastModifiedBy>Wesley Woitt</cp:lastModifiedBy>
  <dcterms:modified xsi:type="dcterms:W3CDTF">2006-08-10T18:12:55Z</dcterms:modified>
  <cp:revision>5</cp:revision>
  <dc:subject/>
  <dc:title>DWG Procedural Manual: Wind Model Requirements</dc:title>
</cp:coreProperties>
</file>